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08F-44A7-4549-9112-A454891D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0B7-DEBC-4F3D-AD5A-88D6A956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129-787B-46E5-A42B-294F6767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126-2BC2-4A9D-B513-F9474BEB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3C7-178E-4653-BE27-BBD5AEA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091-FD83-4AE2-904A-CC8EDB0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04F-59C8-4F6D-A179-507A324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04F-2BBF-4109-AB70-B6A150C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A5E-FDF7-443A-A55C-53D2B7D6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2C0-9BB3-49F7-A8F2-5B0070C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088-D14E-4D51-A807-F67E1D2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FC2-7AE7-40D0-99B2-9BBEB7C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750-8604-41CB-8AD3-FAF5B8F8B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07504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3440" y="1447920"/>
            <a:ext cx="445788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of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Officers Training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FIRE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mitsburg, Mary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914400"/>
            <a:ext cx="5410080" cy="7086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5400000">
            <a:off x="263160" y="4881600"/>
            <a:ext cx="594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ficer Training Curriculum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of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2245320" y="1531080"/>
            <a:ext cx="185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C-PO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3T18:40:38Z</dcterms:created>
  <dc:creator>Debra Martin</dc:creator>
  <dc:description/>
  <dc:language>en-US</dc:language>
  <cp:lastModifiedBy>jboggs</cp:lastModifiedBy>
  <cp:lastPrinted>2003-01-16T19:16:44Z</cp:lastPrinted>
  <dcterms:modified xsi:type="dcterms:W3CDTF">2006-02-10T16:35:11Z</dcterms:modified>
  <cp:revision>44</cp:revision>
  <dc:subject/>
  <dc:title>US&amp;R WMD</dc:title>
</cp:coreProperties>
</file>